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AD54-D084-4EEC-A10D-20ECE1834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3005-6251-44D8-8443-E552F8DC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D3D0-9A0B-4E93-806A-178626FC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8034-AD26-4611-BF11-2B1DDDF1A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235B-2FF8-4CE4-9CDE-C178B0F9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860E-F729-47C9-9CF2-96C1B43F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6C27-D713-4CD5-B1FF-30A393D3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EA94-A072-48B8-BF95-C312D94D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AE6E-DCC0-445B-BE9E-00BEE877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2117-4C5A-4893-9AC1-2D7AE15F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CA36-1BBB-4F3C-9B67-C2314958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356C-77EA-4419-9E83-5E4CD12F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3E1E-DCE4-4CB5-98B0-189EDB97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7F69-9E1B-4ECD-A914-C1568AF7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D657-5036-4CD5-9138-C5CFC65C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2F64-628D-4243-945F-C71CFB3D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F35C-50D9-46B9-A7A8-899417290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651A-B878-4D5D-82BC-0DA89650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073A-5947-4440-9B8F-5C8E6E54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2467-AEC4-40AF-879F-65650ACE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B4F2-DC1F-45F9-9630-6E3A200F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4323-1251-4770-8E8B-8DABF86E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D413-9BCB-4287-B867-F84FA392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565B-EE6F-4C78-8CD9-40B99FF2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A8C5-0E6E-45C8-A1D4-2EA18CA57FC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C415-63B4-4FBB-B557-65BAC435A24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The Beginning of Captivity for Israel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Quarter 7, Lesson 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ill There Was No Remedy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Divided Kingdom, Part 2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ages 115-11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Invasion by the Edomites and the Philistines  </a:t>
            </a:r>
            <a:r>
              <a:rPr b="0" i="1" lang="en-US" sz="2400" spc="-1" strike="noStrike">
                <a:solidFill>
                  <a:srgbClr val="ffcc66"/>
                </a:solidFill>
                <a:latin typeface="Arial"/>
              </a:rPr>
              <a:t>2 Chron. 28:17-19</a:t>
            </a:r>
            <a:endParaRPr b="0" i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236196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Juda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domites took captivities from Juda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hilistines captured many cities in the low country and in the sout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haz asked the king of Assyria for help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2361960"/>
            <a:ext cx="419076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Isra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ekah reign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Ahaz Asked the King of Assyria for Help</a:t>
            </a:r>
            <a:br>
              <a:rPr sz="4400"/>
            </a:br>
            <a:r>
              <a:rPr b="0" i="1" lang="en-US" sz="2400" spc="-1" strike="noStrike">
                <a:solidFill>
                  <a:srgbClr val="ffcc66"/>
                </a:solidFill>
                <a:latin typeface="Arial"/>
              </a:rPr>
              <a:t>2 Kings 16:7-8;  2 Chron. 28:16; 20-21</a:t>
            </a:r>
            <a:endParaRPr b="0" i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Juda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haz would not join the Syrian-Israel coali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haz would not ask God for help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ather, he sought help from Tiglath-pileser of Assyri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4280" y="2209320"/>
            <a:ext cx="419112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Isra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ekah reign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Assyria Falls</a:t>
            </a:r>
            <a:br>
              <a:rPr sz="4400"/>
            </a:br>
            <a:r>
              <a:rPr b="0" i="1" lang="en-US" sz="2400" spc="-1" strike="noStrike">
                <a:solidFill>
                  <a:srgbClr val="ffcc66"/>
                </a:solidFill>
                <a:latin typeface="Arial"/>
              </a:rPr>
              <a:t>2 Kings 16:9;  2 Chron. 28:16; 20-21</a:t>
            </a:r>
            <a:endParaRPr b="0" i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42670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Juda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iglath-pileser destroyed Damascu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zin king of Damascus kill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rea was made an Assyrian provin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43400" y="2133720"/>
            <a:ext cx="41911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Isra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ekah reign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5638680"/>
            <a:ext cx="6629400" cy="1068840"/>
          </a:xfrm>
          <a:prstGeom prst="rect">
            <a:avLst/>
          </a:prstGeom>
          <a:noFill/>
          <a:ln w="7632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Eras Demi ITC"/>
              </a:rPr>
              <a:t>Isaiah’s prophecy coming true about the fall of </a:t>
            </a:r>
            <a:r>
              <a:rPr b="1" lang="en-US" sz="3200" spc="-1" strike="noStrike">
                <a:solidFill>
                  <a:srgbClr val="ffffcc"/>
                </a:solidFill>
                <a:latin typeface="Eras Demi ITC"/>
              </a:rPr>
              <a:t>Syria</a:t>
            </a:r>
            <a:r>
              <a:rPr b="0" lang="en-US" sz="3200" spc="-1" strike="noStrike">
                <a:solidFill>
                  <a:srgbClr val="ffffcc"/>
                </a:solidFill>
                <a:latin typeface="Eras Demi ITC"/>
              </a:rPr>
              <a:t> and </a:t>
            </a:r>
            <a:r>
              <a:rPr b="1" lang="en-US" sz="3200" spc="-1" strike="noStrike">
                <a:solidFill>
                  <a:srgbClr val="ffffcc"/>
                </a:solidFill>
                <a:latin typeface="Eras Demi ITC"/>
              </a:rPr>
              <a:t>Isra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757080"/>
            <a:ext cx="9144000" cy="5937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952880" y="3124080"/>
            <a:ext cx="83844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7400" y="3049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We’re Studying THIS Stretch of Tim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The Setting For This Lesson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Juda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Jotham reign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Isra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ekah reign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(1 Chron. 5:25-26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iglath-pileser king of Assyria took captivities from Gilea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od had “stirred” the spirit of Tiglath-pileser against Isra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Judah Attacked</a:t>
            </a:r>
            <a:br>
              <a:rPr sz="4400"/>
            </a:br>
            <a:r>
              <a:rPr b="0" i="1" lang="en-US" sz="2400" spc="-1" strike="noStrike">
                <a:solidFill>
                  <a:srgbClr val="ffcc66"/>
                </a:solidFill>
                <a:latin typeface="Arial"/>
              </a:rPr>
              <a:t>2 Kings 15:37</a:t>
            </a:r>
            <a:endParaRPr b="0" i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ekah of Israel and Rezin king of Damascus (Syria) joined forc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y began to afflict Judah during the last days of Jotham king of Juda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Ahaz - New King of Judah</a:t>
            </a:r>
            <a:br>
              <a:rPr sz="4400"/>
            </a:br>
            <a:r>
              <a:rPr b="0" i="1" lang="en-US" sz="2400" spc="-1" strike="noStrike">
                <a:solidFill>
                  <a:srgbClr val="ffcc66"/>
                </a:solidFill>
                <a:latin typeface="Arial"/>
              </a:rPr>
              <a:t>2 Kings 15:38-16:4</a:t>
            </a:r>
            <a:endParaRPr b="0" i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Juda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Jotham di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1311120" indent="-39672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uried in City of Davi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haz - reigned 16 years (most wick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1311120" indent="-39672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20 years ol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1311120" indent="-39672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on of Jotham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1311120" indent="-39672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ffered his son as a sacrific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Isra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ekah - 17th yea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Israel/Syria War Against Judah</a:t>
            </a:r>
            <a:br>
              <a:rPr sz="4400"/>
            </a:br>
            <a:r>
              <a:rPr b="0" i="1" lang="en-US" sz="2400" spc="-1" strike="noStrike">
                <a:solidFill>
                  <a:srgbClr val="ffcc66"/>
                </a:solidFill>
                <a:latin typeface="Arial"/>
              </a:rPr>
              <a:t>2 Kings 16:5-6;  2 Chron. 28:5-15;  Isaiah 7:1-17</a:t>
            </a:r>
            <a:endParaRPr b="0" i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ekah and Rezin started a war with Juda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aiah met with Ahaz and told him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ot to fear the two “firebrands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o ask for a sign from God, but he refus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aiah said a sign would be given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 virgin shall conceive, bear a child, and be called Immanu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land will be forsaken by both king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Israel/Syria War Against Judah</a:t>
            </a:r>
            <a:br>
              <a:rPr sz="4400"/>
            </a:br>
            <a:r>
              <a:rPr b="0" i="1" lang="en-US" sz="2400" spc="-1" strike="noStrike">
                <a:solidFill>
                  <a:srgbClr val="ffcc66"/>
                </a:solidFill>
                <a:latin typeface="Arial"/>
              </a:rPr>
              <a:t>2 Kings 16:5-6;  2 Chron. 28:5-15;  Isaiah 7:1-17</a:t>
            </a:r>
            <a:endParaRPr b="0" i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ekah and Rezin besieged Jerusal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zin re-took Elath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(See 2 Kings 14:22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zin carried away great multitudes from Judah to Damasc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ekah killed 120,000 in Judah in one da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rael carried away 200,000 from Judah to Samaria (mostly women and children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Israel/Syria War Against Judah</a:t>
            </a:r>
            <a:br>
              <a:rPr sz="4400"/>
            </a:br>
            <a:r>
              <a:rPr b="0" i="1" lang="en-US" sz="2400" spc="-1" strike="noStrike">
                <a:solidFill>
                  <a:srgbClr val="ffcc66"/>
                </a:solidFill>
                <a:latin typeface="Arial"/>
              </a:rPr>
              <a:t>2 Kings 16:5-6;  2 Chron. 28:5-15;  Isaiah 7:1-17</a:t>
            </a:r>
            <a:endParaRPr b="0" i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ded, a prophet of God, confronted the Israelites about the captiv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 said to return the captives back to Juda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ason:  They were no better than Juda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rael’s leaders also asked that they be returned to avoid more of God’s wrat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Israel/Syria War Against Judah</a:t>
            </a:r>
            <a:br>
              <a:rPr sz="4400"/>
            </a:br>
            <a:r>
              <a:rPr b="0" i="1" lang="en-US" sz="2400" spc="-1" strike="noStrike">
                <a:solidFill>
                  <a:srgbClr val="ffcc66"/>
                </a:solidFill>
                <a:latin typeface="Arial"/>
              </a:rPr>
              <a:t>2 Kings 16:5-6;  2 Chron. 28:5-15;  Isaiah 7:1-17</a:t>
            </a:r>
            <a:endParaRPr b="0" i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army left the the captives and the spoil the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leaders clothed and fed them, and took them back to Jerich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7:43:35Z</dcterms:created>
  <dc:creator>Don Vines</dc:creator>
  <dc:description/>
  <dc:language>en-US</dc:language>
  <cp:lastModifiedBy>Frank D Vines</cp:lastModifiedBy>
  <dcterms:modified xsi:type="dcterms:W3CDTF">2006-02-05T19:18:17Z</dcterms:modified>
  <cp:revision>16</cp:revision>
  <dc:subject/>
  <dc:title>The Beginning of Captivity of Israel</dc:title>
</cp:coreProperties>
</file>